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419-7F1A-477D-971D-1776415C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512-293E-47B4-A22C-98B3B8C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381-B76D-4057-B6F9-F29DA175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BB6-CC4F-41B1-AF13-C595B665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4AE-B5D0-438C-8022-61A4535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753-98E3-4F82-B2F4-DEAC483A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A9E-0AD9-4E78-ADF3-ADECC59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8CC-DCC9-48B9-93EA-9351769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069-4B3F-4E7B-A825-6F38B398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FE2-E175-41D1-8D4E-3D377A4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7A4-EAEE-46B9-9BD6-06BF73D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46F-79DE-47F1-BD3E-4CC8338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46BA-D497-420E-9684-6D27092B55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vs. IN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8769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qar Hussain – Visiting Facul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artment of Education, The Islamia University of Bahawal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ail: gondal369@gmail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n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example of No A are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905120" y="2666880"/>
            <a:ext cx="2057400" cy="1600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029200" y="2819520"/>
            <a:ext cx="175248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15238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1523880" y="5410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723888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152388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n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n example of some A are B. (At least one A is 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Diagram 9"/>
          <p:cNvGrpSpPr/>
          <p:nvPr/>
        </p:nvGrpSpPr>
        <p:grpSpPr>
          <a:xfrm>
            <a:off x="3276720" y="3276720"/>
            <a:ext cx="3402000" cy="2528640"/>
            <a:chOff x="3276720" y="3276720"/>
            <a:chExt cx="3402000" cy="2528640"/>
          </a:xfrm>
        </p:grpSpPr>
        <p:sp>
          <p:nvSpPr>
            <p:cNvPr id="74" name="_s1028"/>
            <p:cNvSpPr/>
            <p:nvPr/>
          </p:nvSpPr>
          <p:spPr>
            <a:xfrm>
              <a:off x="4419720" y="3276720"/>
              <a:ext cx="1514160" cy="151416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29"/>
            <p:cNvSpPr/>
            <p:nvPr/>
          </p:nvSpPr>
          <p:spPr>
            <a:xfrm>
              <a:off x="6275160" y="5427720"/>
              <a:ext cx="4035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0"/>
            <p:cNvSpPr/>
            <p:nvPr/>
          </p:nvSpPr>
          <p:spPr>
            <a:xfrm>
              <a:off x="3276720" y="3276720"/>
              <a:ext cx="1514160" cy="151416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1"/>
            <p:cNvSpPr/>
            <p:nvPr/>
          </p:nvSpPr>
          <p:spPr>
            <a:xfrm>
              <a:off x="3303360" y="5427720"/>
              <a:ext cx="4035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7"/>
          <p:cNvSpPr/>
          <p:nvPr/>
        </p:nvSpPr>
        <p:spPr>
          <a:xfrm>
            <a:off x="990720" y="55627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ellow oval is A, the blue oval is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133720" y="30481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69343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213336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13372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Venn Diagram to determine the validity of the given argu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#14 All smiling cats t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Cheshire Cat sm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fore, the Cheshire Cat tal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ID OR INVALID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alid argument;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Cheshire C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"/>
          <p:cNvSpPr/>
          <p:nvPr/>
        </p:nvSpPr>
        <p:spPr>
          <a:xfrm>
            <a:off x="2133720" y="2057400"/>
            <a:ext cx="4190760" cy="350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2362320" y="3124080"/>
            <a:ext cx="2133360" cy="18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 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3716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1371600" y="1905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371600" y="60199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716292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 one who can afford heal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nsurance is unemploy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politicians can afford heal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ur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fore, no politician is unemploy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OR INVALID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politician. The argument is va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905120" y="2971800"/>
            <a:ext cx="2666880" cy="251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ho can af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2590920" y="3048120"/>
            <a:ext cx="144756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5715000" y="3352680"/>
            <a:ext cx="2057400" cy="2057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838080" y="23623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838080" y="23623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8229600" y="23623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838080" y="59436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16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me professors wear gla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r. Einstein wears gla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refore, Mr. Einstein is a profess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t the yellow oval be professors, and the blue oval be glass wearers. Then x (Mr. Einstein) is in the blue oval, but not in the overlapping region. The argument is inval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Diagram 12"/>
          <p:cNvGrpSpPr/>
          <p:nvPr/>
        </p:nvGrpSpPr>
        <p:grpSpPr>
          <a:xfrm>
            <a:off x="2720880" y="3875040"/>
            <a:ext cx="3776760" cy="1514520"/>
            <a:chOff x="2720880" y="3875040"/>
            <a:chExt cx="3776760" cy="1514520"/>
          </a:xfrm>
        </p:grpSpPr>
        <p:sp>
          <p:nvSpPr>
            <p:cNvPr id="107" name="_s2052"/>
            <p:cNvSpPr/>
            <p:nvPr/>
          </p:nvSpPr>
          <p:spPr>
            <a:xfrm>
              <a:off x="4429080" y="3875040"/>
              <a:ext cx="1514520" cy="15145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3"/>
            <p:cNvSpPr/>
            <p:nvPr/>
          </p:nvSpPr>
          <p:spPr>
            <a:xfrm>
              <a:off x="6094440" y="4443480"/>
              <a:ext cx="4032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4"/>
            <p:cNvSpPr/>
            <p:nvPr/>
          </p:nvSpPr>
          <p:spPr>
            <a:xfrm>
              <a:off x="3274920" y="3875040"/>
              <a:ext cx="1514520" cy="15145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5"/>
            <p:cNvSpPr/>
            <p:nvPr/>
          </p:nvSpPr>
          <p:spPr>
            <a:xfrm>
              <a:off x="2720880" y="4443480"/>
              <a:ext cx="4035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uctive Reas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volves going from a series of specific cases to a general statement. The conclusion in an inductive argument is never guarant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What is the next number in the sequence 6, 13, 20, 27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more than one correct ans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80880" y="576360"/>
            <a:ext cx="739152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46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he science of correct reaso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he drawing of inferences or conclusions from known or assumed 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olving a problem, one must understand the question, gather all pertinent facts, analyze the problem i.e. compare with previous problems (note similarities and differences), perhaps use pictures or formulas to solv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43000" y="755640"/>
            <a:ext cx="71532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’s the sequence again 6, 13, 20, 27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the difference of each t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 – 6 = 7, 20 – 13 = 7, 27 – 20 =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 the next term is 34, because 34 – 27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what if the sequence represents the dates. Then the next number could be 3 (31 days in a month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xt number could be 4 (30 day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it could be 5 (29 day month – Feb. Leap ye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even 6 (28 day month – Fe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630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66680" y="622440"/>
            <a:ext cx="73310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Good Luc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ductive Reas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A type of logic in which one goes from a general statement to a specific insta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assic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l men are mortal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ajor prem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rates is a man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minor prem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fore, Socrates is mortal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nclusion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ove is an example of 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yllog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50840" y="838080"/>
            <a:ext cx="70423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4674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yllog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n argument composed of two statements or premises (the major and minor premises), followed by a conclu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given set of premises, if the conclusion is guaranteed, the arguments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conclusion is not guaranteed (at least one instance in which the conclusion does not follow), the argum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val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E CARFEUL, DO NOT CONFUSE TRUTH WITH VALIDITY!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l students eat piz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laire is a student at AS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fore, Claire eats piz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l athletes work out in the g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arry Bonds is an athlet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fore, Barry Bonds works out in the gym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 All math teachers are over 7 feet t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r. D. is a math teac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fore, Mr. D is over 7 feet t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rgument is valid, but is certainly not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examples are of the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(major premi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(minor premise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(conclu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n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enn Diag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 diagram consisting of various overlapping figures contained in a rectangle called the universe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exampl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A are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(If A, then B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4"/>
          <p:cNvSpPr/>
          <p:nvPr/>
        </p:nvSpPr>
        <p:spPr>
          <a:xfrm>
            <a:off x="3581280" y="2514600"/>
            <a:ext cx="4114800" cy="266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4648320" y="2666880"/>
            <a:ext cx="2209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2895480" y="54100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V="1">
            <a:off x="807732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H="1">
            <a:off x="2895480" y="23623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2895480" y="2362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9:08:17Z</dcterms:created>
  <dc:creator>Anthony J. D'Alesandro</dc:creator>
  <dc:description/>
  <dc:language>en-US</dc:language>
  <cp:lastModifiedBy>Admin</cp:lastModifiedBy>
  <cp:lastPrinted>2019-10-25T00:07:15Z</cp:lastPrinted>
  <dcterms:modified xsi:type="dcterms:W3CDTF">2020-04-03T09:18:39Z</dcterms:modified>
  <cp:revision>35</cp:revision>
  <dc:subject/>
  <dc:title>DEDUCTIVE vs. INDUCTIVE REASONING</dc:title>
</cp:coreProperties>
</file>